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2A83-3D6F-4838-A547-9F2775AA7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E55A-7743-4D9C-A087-68D79DCA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083B-2389-4E15-9DFF-5783B200B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CB4-FCD6-4017-A1D2-35BBC486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1171-BADA-4EF6-860B-8E2407B1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A8F-E098-49B1-8C80-1E8B2E83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DC90-5D99-41D1-A8EA-8CFB09EBA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93D0-5E5D-4060-8C6A-3CFAE04BC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CFFD-217A-43E5-B6A1-E0F5965C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980A-044E-4D4E-96BE-1AF15A40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7685-7F5D-4C73-B78C-F3023A6D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CE2B-809F-45C7-A3E7-85D9940C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F5FF-C61F-48B8-96FD-CEAA7B8FE5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152280"/>
            <a:ext cx="582912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ADING &amp; ANALYSING ARTICLES USING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AUL’S WHEEL OF ANALYSI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371600"/>
            <a:ext cx="6400800" cy="6553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4495680"/>
            <a:ext cx="640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86240" y="1371600"/>
            <a:ext cx="95040" cy="655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219320" y="2286000"/>
            <a:ext cx="449568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0"/>
            <a:ext cx="4591080" cy="45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06760" y="152388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603680" y="449568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5200" y="4511520"/>
            <a:ext cx="16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ICATION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19720" y="556272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.O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5560" y="297180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77720" y="294336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IDENC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30720" y="556272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338200" y="152388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7200" y="8534520"/>
            <a:ext cx="572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Based on Joyce Van Tasselbaska’s modification of Paul’s Reason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66800" y="1771560"/>
            <a:ext cx="1948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text typ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do you think i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rpose of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y did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r write this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08520" y="2057400"/>
            <a:ext cx="13982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sue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ed se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su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36440" y="3476520"/>
            <a:ext cx="199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evidence do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writer use to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s point?  Does he quo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84960" y="4724280"/>
            <a:ext cx="20401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writer’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on the issu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writer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of 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er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3360" y="334008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nferences can 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e from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can you infer about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ne and attitude of the write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5240" y="4956120"/>
            <a:ext cx="2710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possible implication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equences of the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ent in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p.i.c.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05000" y="5931000"/>
            <a:ext cx="1453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concept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stract ide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present in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l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99560" y="6006960"/>
            <a:ext cx="2331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ose point of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presented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ch interest group doe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r represen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85680" y="8024760"/>
            <a:ext cx="330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Impact"/>
              </a:rPr>
              <a:t>8 Possible Points of Entry (P.O.E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95320" y="9175680"/>
            <a:ext cx="132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P/ENGLISH/T1WK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4743720" cy="13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ADING &amp; ANALYSING ARTICLES USING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AUL’S WHEEL OF ANALYSIS* TEMP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98440" y="936720"/>
            <a:ext cx="64216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tle of article : ___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r : 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ticle taken from _________________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sue : _______________________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2133720"/>
            <a:ext cx="6553440" cy="678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352680" y="2133720"/>
            <a:ext cx="76320" cy="678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280" y="548640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3200400"/>
            <a:ext cx="480060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66680" y="3124080"/>
            <a:ext cx="4648320" cy="472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6760" y="2301840"/>
            <a:ext cx="10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35160" y="23018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UES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T ISS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8920" y="3854520"/>
            <a:ext cx="13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76000" y="3825720"/>
            <a:ext cx="116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VIDENCE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03680" y="5486400"/>
            <a:ext cx="146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45200" y="5502240"/>
            <a:ext cx="1652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MPLICATIONS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SEQU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19720" y="647712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.O.V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7800" y="6477120"/>
            <a:ext cx="114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NCEP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95320" y="9539280"/>
            <a:ext cx="132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TWP/ENGLISH/T1WK5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7200" y="9067680"/>
            <a:ext cx="572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*Based on Joyce Van Tasselbaska’s modification of Paul’s Reasoning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7T06:57:26Z</dcterms:created>
  <dc:creator>Edmund Teo</dc:creator>
  <dc:description/>
  <dc:language>en-US</dc:language>
  <cp:lastModifiedBy>lokelf</cp:lastModifiedBy>
  <dcterms:modified xsi:type="dcterms:W3CDTF">2009-06-26T07:12:20Z</dcterms:modified>
  <cp:revision>10</cp:revision>
  <dc:subject/>
  <dc:title>READING &amp; ANALYSING ARTICLES USING PAUL’S WHEEL OF ANALYSIS</dc:title>
</cp:coreProperties>
</file>